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move the slide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E289-D6D0-46D2-AFC8-FB959F90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30C-CE96-48A5-9A29-0E72FEC59176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1FE0-9539-494B-B2BD-26149BE661D0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8D78-9E26-4EC1-BBBD-91D7FBD4DEF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123E-4380-469B-A80F-2376402319E6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542C-6FCF-40CF-A7B2-4309EDA5F4BD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E805-F997-4C00-A105-88CAF74C8AD2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A628-9A1D-42DD-B47B-A0F86A6AB28C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BD6-EF52-4FAF-B37B-3074FCAB4B0D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81D6-EE74-4F1E-963B-10FDAD1C2602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2502-07C1-4FA7-8067-EF3D234DCBC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433D-9616-4216-88F9-55802C836255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D910-3E3B-436E-97E2-6CB803719EBA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85F-F788-4284-BA80-3DAFC10B0A3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8DAC-77F1-44A4-87F6-91BC54DB121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CF26-D249-492E-8CF0-F0FEEFFF5D34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B8EF-0E5C-4B62-8DA9-3AEF1C9B1A99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A926-D9FA-4E56-9FDC-6AB5F69E174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C8DF-FE9F-48BC-94D7-8125055FA91E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2175-8B10-48C1-BB6E-CA987194D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0F91-DBC6-4671-B308-2CA16E0CEE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B11742-E0FB-4744-B23B-E2F1192753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F8024F-0E14-49F1-BAB1-E694566EDD1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4CB4DB-6F64-4637-9621-534E3DE3D54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96DDDA-F93A-4A00-B5AB-BFFE7F2FD32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E18587-E69F-4428-BD1A-82D978440E9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FD97EC-34C9-4CB2-8DA1-8A2797E84E1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7B164B-6CF4-41AE-9040-24AC6B4A24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E970E-6515-4B77-A488-D4E84703383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C483D6-6080-4A12-8DC2-97D55D6830A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0F149-2667-4C50-A139-7747EFE97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ADDC-37BD-431B-88F9-6FB7453E971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3726-2C89-414D-924D-FA5C9604F52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4BB9-EDA7-4F1F-BD3C-B7925300EE2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463C-87C5-443C-9B9F-FE625CFE695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F7683-75EA-42AC-A0EF-2B48022DF9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0A05E-81AE-4E20-A4EB-C07AA46006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D6A33-D338-491F-9DC7-822FE59C3F2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EBEB-835E-42D4-ABB2-297A4C030B4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79130-E835-436D-B2FA-1DD5948E26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6B47-772B-40E1-8D0C-738BB986004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05FD1-F36F-406A-9706-3DE19A4E8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9EC2-5B0C-4F4A-A995-B9D54319D6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FCD61-EF33-40B9-B63C-1190D36868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7ED4B1-96C4-4DC2-9675-6C96298F5A3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3065F-387D-431A-9895-D4A3BEC7187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9DE59-006C-40AD-9CED-39869D3243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EBF28-C49C-4DB5-BA48-0EF4530EF5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1224C-9223-45E2-BF3C-0E3C5847EB3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593B8B-43BC-484D-8395-E738C59A04C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BC658-82A8-4684-825F-643DE50EB77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BBA91-F463-4027-B2E5-9D12CA70297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607A2-0801-468E-95CF-17DB5C981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E1BBF-843F-4870-8E5B-AAAA659E5F0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2E39D-E3EF-4F63-A73B-332BF03FAA9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C67ED-0446-4D7B-9E56-F3F1CDD9A09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972FB-A018-46B8-9782-A1BC131D14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B34389-F515-48D2-ADFF-66CAF257072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04B0BE-9FA9-4FAE-BD82-582EE0F848F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6F6F31-8EA0-4BA1-B428-46339673C81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C12C36-E7A4-443B-B8F8-505A53DD51E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0B2890-41B4-4678-9380-5FA434F8EEE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CD0543-8CC3-419A-87F8-B2EF2E6D9DC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0490E0-9812-465D-A6FF-1B63037B28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81EA8-F954-4AEE-9FE9-67E054A54B1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506F6E-51C9-4FE2-9A54-670C4CE774C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534A27-F5CC-453E-9FF3-E3AE14861A5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0C1C2A-E85B-4DEC-B660-A9F4B569D32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D600E4-6E9A-4809-88C5-E949DF92B25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B1D19-5B9B-4C63-BD4D-E1CEF4695CB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108FB-A25B-4E81-BFAB-655B886CFA4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87611-856B-4D00-8586-FA367619C5B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66C83-B1A5-4762-9B56-2A585E9B876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20338-D011-4D5F-851B-6B277368901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4E31A-1935-4904-BEC2-A90D04FEAF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293BA-5936-4260-828D-DB0E990C7B7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F493-3F2C-4835-AB27-710AAD35AB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D105-D56E-4983-93C8-64EC9E56888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E8FFD-0414-4923-BB79-6F29E64051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92241-A7F8-4F67-943B-948BDCF7CC1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46EC-B7A0-4D03-9A19-09A93016E15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956D8-1B3D-47AA-AD86-3310E729B00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A0D65-54B4-4045-96C3-69B1707CE9B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9BFEB-3D33-4E43-8329-2990D350FC8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5838A6-347B-4216-B2AC-17598A7796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8493E-43BD-4C30-ABD8-5D8792DEF98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B8C365-8C58-4252-B1A1-0A0A49B2A98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BF7677-D394-41BA-965C-65D0E80B321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C4896-16CF-400B-B379-26F8C3E3387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4B17EA-6E78-4248-8691-0A746C663D9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D15A7-3128-4623-8C94-7B7FAADE0E4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9C48D-9334-43D6-9CCA-ADE5C89BCF5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8C7500-E43D-464F-B73B-2ED728D89AB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B36843-ABF9-43AA-AC84-5C3B03B2F12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FA5BDF-3519-403E-84B2-B05832EB3DA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543261-5E58-4877-871D-8155B70B71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A7C9A-648C-459C-B580-5BC04F2060D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0F8453-3D6D-4E36-94E8-FCF72D6B695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12297-4F3A-488A-A5EA-8683A1BED06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4C7D1-8B9C-45C0-BE76-780EB4308BC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A873D-E381-433A-8775-6300FBA9834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BFB46-41CD-4DE0-93A8-F65E3424BD8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8082D-3C4C-4373-8F8E-014824E8B6F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03509-E726-496E-84A8-27B857B1803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E1F9A-5312-46DB-92E9-6B1527D25E2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2B11A-6327-4677-A99F-01F22CA8FCD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D583F-E4FA-4096-B709-015136E9EE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416F6-756D-40E6-8E5B-7605DC6DD39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84AE4-7435-4A9C-8489-BB110C24C55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BC0D7-28B4-4EDE-B061-3D8332A4107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BEE63-25E1-45C3-8D31-168633805A3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7F9D2-DF76-46AA-B7FF-C5C1D5B969D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7A933-093F-4466-B59E-18EB2D95CB5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4BC7B-2855-47E5-BD79-80DEFCBC088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02938-4DBE-4000-B465-46E6911675B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218D2-AEC0-41D3-A4AF-DFD5BE97920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A4581-5754-436B-9AA8-5410B76B0FA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9AE5F-1F9E-4CBE-8884-5959266E2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D580-C19D-4365-87F3-82B5EEFA4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C2EAE-9902-4755-B0E0-2B1DC67A660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F9FAE-6B17-4CA2-AD86-D6C02EB7D66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FF7E9-9006-4121-814F-1902C519338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0318D-3501-4EA0-B13D-94F4086E7C7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B9623-5B32-4E06-A763-9C9F9374D87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5D280-D35C-424B-8192-340424B82AF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59A124-62DA-4655-87F7-7B3B87AAF26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E9BD73-7393-47A5-8839-A29FC5C1B2E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0C3727-C322-46A1-B2B0-646BDFB93BB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FF5110-1651-4D58-8101-DDD6148F9F8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7C991F-0037-4F0B-BE4E-CDEADBC613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D6C15-4441-4851-9D75-F6867976CAD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FE09EB-DA25-4B9D-8C7B-4E6470E8E84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8D61A3-986A-4073-BDA9-BEB3914932B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D18DA2-1225-419E-9CCF-FDAF79B9B92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9A935D-4A4E-4A5B-A5C1-E0C9A48F2FB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12BF7A-64DE-4775-AD95-C9F6D4AB46E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3CD30F-5C52-4196-86C6-BA7C42B3933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BDA549-AF59-4E5B-A215-460AC5F92F2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14B70-FABA-4121-B412-A3E8CA5808C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B6DE4-C516-4DB3-97BF-FD3A0CC592D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DCCAF-94F1-4F7B-923D-05310FFF5F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F9AE4-5B05-481A-8AD8-7571A13A15A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DA883-FC35-47F5-81CB-F8881ECDD56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14ECF-6B44-4A0C-AF68-0248E456BE6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9B938-AF7F-461B-9ED6-A6DD1BCA0A8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3C99C-4355-43E8-A5FB-B9CB38AC666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2DD46-784A-4F4B-9367-B2D646FF4E4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D834C-6BEE-4F05-BF5B-54039B0E0E1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66E8F-F3AD-44DA-8ADA-837864E3C47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F9A96-C08E-47DE-B714-08A9EF64F12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0432B-664D-408B-B41F-CF001BF4C19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DAB73-FCAA-4718-B469-0A3A5DFE3C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5B43B-0700-4E14-AA20-D2B0EDA5B2D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0B927-79CD-4AEA-A47C-92A0EFEA69B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67FE4-C039-4811-AE15-52336619232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84C0A-2643-43E1-ACC2-84A01FABF40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AB5E3-BAFB-4F8E-BBF1-EF43C57A14C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B90F8-CC30-4C7A-A264-3D7E7219A98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89A66-76FF-4AD2-A223-390D2727188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1CD75-9929-4A41-A7B4-70992B88860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2B78B-237B-4CF1-993A-D4C1CC6014B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1FE11-40E9-48D0-84E2-5D80123BBA7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3C1A0-F0DE-4B9F-9225-8066096570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A0463-E2D9-4344-B8CA-271405F9CB9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A8EC4-ED0D-4341-BEBE-C64A46561D5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918FA3-F5FF-4F0B-BBEE-BADFD4ADD16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A60C61-C3C9-4F4A-B35B-DEF49289411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B9AFC3-ECA5-43EC-AF26-E6DFB11CACD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B6EF9A-099B-41B9-8005-87B7517A2A9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0AD354-AF9C-4BA5-9F6E-585E95A6884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3B8202-A93E-4629-9BEA-220601A7ADB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DF762D-52F2-4B39-A085-30805223669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612E2E-07A0-4BE7-A0E6-E28E7824FE7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F298F0-3B36-460D-8D2F-0E165B071F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C2F66C-B831-4878-9C10-1A4DF1674BA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B04E24-D6F7-473F-B76C-FCC122D3128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C52AA5-45FE-4973-A6C9-FAEFD7E87B3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7EFF82-3235-4CAB-BCCE-9C0D25FE0E1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58DEA6-53F4-465C-A960-0B8965A81E6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776E31-2929-4E98-B1AF-1AB1D2A41BB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EA3887-9344-4B0C-A45F-6CEF1DC81CD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7180CC-3339-4E38-A7AC-C4B46ADE1BD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F877CC-238C-42CD-8C26-900092E76C6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182031-4436-43AA-892A-5BB8D58316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BA33A6-2FED-410F-86F1-39BC979FB7F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C22820-7080-428F-9308-A1BB2A3A3E2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51A676-F622-4045-ADFE-BA4F8BC3687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2E7457-440E-42EC-A80A-3B7FD6D41AE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25A693-03FD-4033-8FD4-55DFE577256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532A4-BD61-4457-883D-7C29B05F6E9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7E53F-6E82-4819-9C24-A7F8491AD32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0C5B0-C0BB-43EE-A8CF-37923DA95B2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85831-1DD5-4A91-B3E2-28BDD816D97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450B4-0271-4002-82C6-C6BCDAC6CA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307AC-7BEE-45DE-B497-A5FE955FE66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E35DF-9E5F-4399-AA7E-D5D51579666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AFDEA-B895-4316-BE00-2FE746DC8CA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CE9BA-3049-4DBD-8231-2BD3F957FE0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9EF24-95EF-4826-82A7-A755AF26C44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7B5D4-DA3B-4B31-B18A-C40F3624C04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61EC8-583B-4FBC-9A8D-1CE64D88516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7E8967-3ED7-47FE-99E7-D239DF88C18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1A8588-7320-4E47-B1ED-D927FAD7849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9886FA-EC27-4E95-9579-48614D26E1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58F522-D5CF-4165-8B03-693FE180D47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B81B6E-E529-4488-9FC1-780AEF7B0A3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648CE0-6503-4C00-81E3-23962D1DAC9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6DAB85-DA22-46F3-AA50-10BEA1CB25C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DB0B19-7DA8-4950-8915-CFBFB1FBAAA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BE676F-A7CD-4A58-92CE-C0FAA332DDF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342760-C4F0-4FA2-85FC-CB1359FFE8C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52200A-0003-4FA4-B3F1-BFB86241380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259126-0E2C-4035-9294-4109BFC8F9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E056-9F0E-4043-990A-D73CCC3DA7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A3D0-D8B0-4518-98BD-0ED32408A2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7D56-4526-4601-A498-7A35A7E4FC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3CCA-7DCF-4977-A9FB-6FF29045F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D8B5-A46F-4CAA-83A0-F15D8D414C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5A79-6409-44A4-A0E7-267CA183E4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BA37-6C63-41A4-BA34-96EF0E3F67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D111-A9B9-415C-AB37-9C86E8B93D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72AE-7524-44F4-852D-38C299B134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D056-BCC3-41AF-BB67-3D1712EE61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5279-BF57-4BDF-BFBA-D0FB4BF597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91FB-C0D7-4DFA-8403-E476A401C9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82B8-006A-4165-B3C3-26EFDD7C8D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E2C3-D4F1-4E1F-B909-091D1AB4D0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37F3F-A39B-4A3D-A759-F20E39E20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11A41-0CCF-4E5C-B597-C9A68C1E00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6BBE5-C4A0-496F-B9EA-EC8B1A50D3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60502-6B71-408A-A61D-D908B5B5BA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66654-D7C1-4FD4-995D-6AC035421B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42895-284D-4C92-BF78-9700BE3F72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505C1-86D6-4B74-AD47-2E452C12A5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E36F6-A883-4D05-9C53-5724252393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FD53F-ADF3-4A03-BDEF-B07F132BA37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8FD8A-7631-49E9-B6B5-E0FAEA434A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9E657-6F4B-45B1-AD48-137FFCABDF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7137C-46FC-4D64-A5BB-D645FDDC9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13F4-24E6-4D25-869D-CA407C3B4D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B3F5B-71B4-4A8A-9498-4F4D77F895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6B1AD-898B-4144-B32A-86F564A790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BAC69-3BCE-42E6-9A14-9339260168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FDB31F-2AF6-4AB1-A89E-B27421135D9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D320E1-B580-4719-AEE0-ED5CEC99A01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7D5DF-AE58-42D6-985D-A5882BB42C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27277-E7BC-48EE-9F76-D6331FDB9B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BE877-33A2-446F-96BB-BC4CB90A1C7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A733A-D7C4-4AEE-ABAA-463879E823B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49889-DAA7-43EF-9B60-C9745A7BE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044C-C9B4-469B-93A8-4B5F6415DBF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7B4E4-1981-464E-9EDA-8D9E4D8415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F03A5-9929-4786-9C8A-43865A81E6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104F12-79EA-4139-8CAD-1B25FCA255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8B1D3-0184-4465-B729-889314230A6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D907-DA4C-48F4-A7C5-CF9A1B0671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B88F-6B47-4D5C-9B52-53470813CD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3939D-AC78-412A-A860-72F5DC199A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FA55-139E-4AA2-9529-4A81305B62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F845-1317-4CDA-9E58-2D9BE45091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A6545-B2D8-445F-B28B-7B70B7EB0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3C6D-C343-4FE5-91F9-0F7696A4EA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06DC-4B55-4D82-9382-82C2BB560B3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8BE7-06F6-445B-9C23-EF27B5D566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4B50D-C458-44D8-994F-BD5DF8E0CB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55BF-FBAA-4608-ABEC-214E0D72DCD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FFB2-7AC7-4605-83DF-5A6491EB63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797E6-F773-4610-8586-F33655E3EDA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854C4-8D3A-4F31-A2EF-5FD35CB65C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51EF3-BD97-4596-829A-218279F6988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1AB38-9155-4FCB-B0D7-B50620311F3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5BF42-8BB1-4967-ABC5-A2F231F30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B1DC-D4F9-460F-ACAB-B113C3F0B9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C778A-7823-4D1B-AA52-3D5D3DB25F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2C179-803F-492E-9251-6B7A5B048FE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DCF7E-4C91-46F7-BDA1-12E4A3D78B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C3658-CF64-427E-9F87-7D8A11D8DCF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303AD-7390-4ED8-ACB5-DFE5F3B363F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A15A5-6749-43E0-9248-E95294F3E24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DA627-3831-4F6A-A67E-E4994DF7094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46FE5C-5B92-411A-AC96-CA03F2BF9F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93EA8A-A2CD-4F64-BF8C-4F119E987A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DA63D-03C8-495C-A8E7-6C3494423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E086-BAF4-42D8-A5BD-56DCB180BA07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B28B-7A3F-4A43-87C9-935150B0EF90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1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ftr" idx="1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58E1-81AD-408F-A479-03E6561468CE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056A-95E7-4EA8-99B7-B8A80E7069CF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FE6D-D244-4E8E-B839-73E39C434B30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3F7B-FE23-42EB-ACBB-5D1CE14898E1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E86E-173E-4C5B-A897-0055BD7B8896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F2D9-F62C-4A8B-AC6F-DF2F2E63896E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58B0-2F78-44BC-86E0-1BD8C49EDCF8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D6A7-0E9E-4502-A326-6F79FA641C84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5"/>
          <p:cNvSpPr/>
          <p:nvPr/>
        </p:nvSpPr>
        <p:spPr>
          <a:xfrm>
            <a:off x="6227640" y="6532560"/>
            <a:ext cx="279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ddddd"/>
                </a:solidFill>
                <a:latin typeface="Trebuchet MS"/>
                <a:ea typeface="Times New Roman"/>
              </a:rPr>
              <a:t>Copyright © 2008, Zend Technologies Inc.</a:t>
            </a:r>
            <a:endParaRPr b="0" lang="en-US" sz="9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2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B1FA-DD62-417E-9CC9-EBF1014ED04F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2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E54B-8B7E-4B0B-B428-21E9C55E9784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2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2A75-4AEE-46A6-862D-2B5A8B5544AA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2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55DB-0ACA-49A9-8478-C2992CA6B86A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2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A2BF-BE75-4817-AF35-C5AFF4E92333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3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B43D-DFED-4D77-8B5C-79F7802F15B2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3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A514-5F49-479A-8F36-F91062370A96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3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D299-4229-42F6-BE2B-A90A4B80353E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3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53A7-0447-4FA3-A2B5-D4B28304CE6E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8F2-ECDA-4C3D-A7DB-8B3396BCF97A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5D14-50F7-443A-BA37-8AE115435A2B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C3B4-992D-4472-99B5-32B2BD308AA3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1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3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FBF6-E1C6-47A5-98BA-39BA1AA735F5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DEF8-5998-4E75-984E-0D3A6418E404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ftr" idx="3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96DD-96D2-405C-9CB0-E544ACB529DB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sldNum" idx="3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71CD-357B-4F44-AE22-7AEE51222DE6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ftr" idx="3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0B81-D7FD-4031-97B5-798B13A90517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sldNum" idx="4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0A36-717B-4888-B14B-5AD6BFAC841D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ftr" idx="4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B9C0-1677-4143-85A9-DC7C3E8C8379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sldNum" idx="4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DCD1-C7AC-4886-8979-B0E0AA8D9B04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ftr" idx="4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8869-A955-4A3A-BED6-3A73FEF87344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sldNum" idx="4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BA9B-EA68-45BF-8132-C3BE84A2C8FC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6227640" y="6532560"/>
            <a:ext cx="279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ddddd"/>
                </a:solidFill>
                <a:latin typeface="Trebuchet MS"/>
                <a:ea typeface="Times New Roman"/>
              </a:rPr>
              <a:t>Copyright © 2008, Zend Technologies Inc.</a:t>
            </a:r>
            <a:endParaRPr b="0" lang="en-US" sz="9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14A3-1B6B-4E4B-A8BB-1024D63BE85B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B9EF-145A-40DF-9AA7-B5D5C5DE9682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86FB-60B9-4BF6-B265-C204904DE588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FDC0-3497-4953-9007-C1C538D99037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7AC2-00DD-4A34-8DB8-5D49A19AAB22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999E-90F9-4DB8-A934-33A72CCA4D23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A070-E904-462F-8240-E6CEFF9B5CC6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8A7F-1049-4B8C-9ECF-E3860D3BAE1D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14D-0995-404D-94A6-32278D84E1B5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A64D-829F-4BFE-9C6C-E57926CE7221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4D5C-2BBC-4DA6-B149-F8234C00D4D3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9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7249-07A0-4C80-AC4D-396EFA66280E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751F-7497-4D90-9015-2B72FBA64385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66" name="Straight Connector 6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67" name="Picture 9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68" name="TextBox 8"/>
          <p:cNvSpPr/>
          <p:nvPr/>
        </p:nvSpPr>
        <p:spPr>
          <a:xfrm>
            <a:off x="0" y="3773520"/>
            <a:ext cx="94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rebuchet MS"/>
              </a:rPr>
              <a:t>Magento — </a:t>
            </a:r>
            <a:r>
              <a:rPr b="0" lang="ru-RU" sz="3600" spc="-1" strike="noStrike">
                <a:solidFill>
                  <a:srgbClr val="333300"/>
                </a:solidFill>
                <a:latin typeface="Trebuchet MS"/>
              </a:rPr>
              <a:t>современный инструмент электронной коммерции</a:t>
            </a:r>
            <a:endParaRPr b="0" lang="en-US" sz="36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69" name="TextBox 9"/>
          <p:cNvSpPr/>
          <p:nvPr/>
        </p:nvSpPr>
        <p:spPr>
          <a:xfrm>
            <a:off x="3467160" y="4952880"/>
            <a:ext cx="222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rebuchet MS"/>
              </a:rPr>
              <a:t>Константин Ъ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0" name="Picture 8" descr="vertical logo"/>
          <p:cNvPicPr/>
          <p:nvPr/>
        </p:nvPicPr>
        <p:blipFill>
          <a:blip r:embed="rId2"/>
          <a:stretch/>
        </p:blipFill>
        <p:spPr>
          <a:xfrm>
            <a:off x="2781360" y="825480"/>
            <a:ext cx="358128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Picture 5" descr="http://docs.google.com/a/tetra-soft.ru/File?id=dfvcn7zx_4hq4sd3fc_b"/>
          <p:cNvPicPr/>
          <p:nvPr/>
        </p:nvPicPr>
        <p:blipFill>
          <a:blip r:embed="rId1"/>
          <a:stretch/>
        </p:blipFill>
        <p:spPr>
          <a:xfrm>
            <a:off x="914400" y="1541520"/>
            <a:ext cx="3581280" cy="3944880"/>
          </a:xfrm>
          <a:prstGeom prst="rect">
            <a:avLst/>
          </a:prstGeom>
          <a:ln w="0">
            <a:noFill/>
          </a:ln>
        </p:spPr>
      </p:pic>
      <p:sp>
        <p:nvSpPr>
          <p:cNvPr id="1019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02E7-AD7B-4D2F-AB09-5C79AB77D176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0" name="TextBox 6"/>
          <p:cNvSpPr/>
          <p:nvPr/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53f20"/>
                </a:solidFill>
                <a:latin typeface="Arial"/>
              </a:rPr>
              <a:t>Автоматизированная установка модулей</a:t>
            </a:r>
            <a:endParaRPr b="0" lang="en-US" sz="26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1" name="Straight Connector 7"/>
          <p:cNvSpPr/>
          <p:nvPr/>
        </p:nvSpPr>
        <p:spPr>
          <a:xfrm>
            <a:off x="380880" y="760320"/>
            <a:ext cx="8382240" cy="18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22" name="Picture 8" descr="magento_logo.png"/>
          <p:cNvPicPr/>
          <p:nvPr/>
        </p:nvPicPr>
        <p:blipFill>
          <a:blip r:embed="rId2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pic>
        <p:nvPicPr>
          <p:cNvPr id="1023" name="Content Placeholder 13" descr=""/>
          <p:cNvPicPr/>
          <p:nvPr/>
        </p:nvPicPr>
        <p:blipFill>
          <a:blip r:embed="rId3"/>
          <a:stretch/>
        </p:blipFill>
        <p:spPr>
          <a:xfrm>
            <a:off x="3193920" y="1414440"/>
            <a:ext cx="793764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D88B-348E-430C-9F9D-641A6A6F9B85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5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6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27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29" name="Rectangle 5" descr=""/>
          <p:cNvPicPr/>
          <p:nvPr/>
        </p:nvPicPr>
        <p:blipFill>
          <a:blip r:embed="rId2"/>
          <a:stretch/>
        </p:blipFill>
        <p:spPr>
          <a:xfrm>
            <a:off x="533520" y="1255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C3D-0F74-4D9D-9554-4F235324E642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1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2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33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533520" y="1263600"/>
            <a:ext cx="822960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5253-00B5-49C3-9D29-8CE54C210C5A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7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8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39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 не так уж и хороша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Magento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крайне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]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сложна для программиста, который еще не работал с ней (высокий порог вхождения)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Чрезвычайно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требовательна к ресурсам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 все равно работает медленно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9DC9-F1E8-4E12-9632-0706EFD07D9B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43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4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4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Типичная ситуация для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47" name="Rectangle 5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78220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F9F-3866-4454-A0CF-FEE4994DFD5F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49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50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51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Думаете, что это шуточки?)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Да чего только стоят названия классов: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Courier New"/>
              </a:rPr>
              <a:t>class</a:t>
            </a: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 Mage_Widget_Block_Adminhtml_Widget_Instance_Edit_Tab_Main_Layout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Courier New"/>
              </a:rPr>
              <a:t>extends</a:t>
            </a: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 Mage_Adminhtml_Block_Template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Courier New"/>
              </a:rPr>
              <a:t>implements</a:t>
            </a: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Courier New"/>
              </a:rPr>
              <a:t>// </a:t>
            </a:r>
            <a:r>
              <a:rPr b="0" i="1" lang="ru-RU" sz="2000" spc="-1" strike="noStrike">
                <a:solidFill>
                  <a:srgbClr val="333300"/>
                </a:solidFill>
                <a:latin typeface="Courier New"/>
              </a:rPr>
              <a:t>и такие конструкции там сплошь и рядом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Varien_Data_Form_Element_Renderer_Interface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одель состоит из трех классов (сама модель + ресурс-модель + коллекция).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ас ждут тонны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овна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XML’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, почти 300 таблиц в базе и примерно 55 мегабайт кода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54" name=""/>
          <p:cNvSpPr/>
          <p:nvPr/>
        </p:nvSpPr>
        <p:spPr>
          <a:xfrm>
            <a:off x="3276720" y="5181480"/>
            <a:ext cx="91440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07F9-CE6C-4A6C-BF6C-A803DF4994C8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56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57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58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Диаграмма компонентов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229600" cy="56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2579-0F83-45F0-A191-88D689DC16F0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2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3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64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Схема базы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BCED-78D0-48BE-97DF-41700ABF3BE8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8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9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70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. Итоги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В общем «золотое дно» для </a:t>
            </a:r>
            <a:r>
              <a:rPr b="0" lang="ru-RU" sz="2800" spc="-1" strike="noStrike" u="sng">
                <a:solidFill>
                  <a:srgbClr val="333300"/>
                </a:solidFill>
                <a:uFillTx/>
                <a:latin typeface="Arial"/>
              </a:rPr>
              <a:t>умелого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фрилансера и компаний, занимающихся разработкой и поддержкой магазинов на ней или пишущих коммерческие экстеншены 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2800" spc="-1" strike="noStrike" u="sng">
                <a:solidFill>
                  <a:srgbClr val="333300"/>
                </a:solidFill>
                <a:uFillTx/>
                <a:latin typeface="Arial"/>
              </a:rPr>
              <a:t>для буржуев</a:t>
            </a:r>
            <a:r>
              <a:rPr b="0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]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02F4-58F2-4509-B856-47B6B194E4F4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7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7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8"/>
          <p:cNvSpPr/>
          <p:nvPr/>
        </p:nvSpPr>
        <p:spPr>
          <a:xfrm>
            <a:off x="3277440" y="274320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3f20"/>
                </a:solidFill>
                <a:latin typeface="Arial"/>
              </a:rPr>
              <a:t>Вопросы?</a:t>
            </a:r>
            <a:endParaRPr b="0" lang="en-US" sz="36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77" name="TextBox 9"/>
          <p:cNvSpPr/>
          <p:nvPr/>
        </p:nvSpPr>
        <p:spPr>
          <a:xfrm>
            <a:off x="3234960" y="4267080"/>
            <a:ext cx="28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3f20"/>
                </a:solidFill>
                <a:latin typeface="Whitney-Medium"/>
              </a:rPr>
              <a:t>aaa@ya.ru</a:t>
            </a:r>
            <a:r>
              <a:rPr b="0" lang="en-US" sz="2800" spc="-1" strike="noStrike">
                <a:solidFill>
                  <a:srgbClr val="333300"/>
                </a:solidFill>
                <a:latin typeface="Whitney-Medium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78" name="Title 8"/>
          <p:cNvSpPr/>
          <p:nvPr/>
        </p:nvSpPr>
        <p:spPr>
          <a:xfrm>
            <a:off x="56664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The End.</a:t>
            </a:r>
            <a:endParaRPr b="0" lang="en-US" sz="3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1A2A-AB78-4249-9F82-7E5BB43A320D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2" name="Picture 13" descr="magento_logo.png"/>
          <p:cNvPicPr/>
          <p:nvPr/>
        </p:nvPicPr>
        <p:blipFill>
          <a:blip r:embed="rId1"/>
          <a:stretch/>
        </p:blipFill>
        <p:spPr>
          <a:xfrm>
            <a:off x="1069920" y="1752480"/>
            <a:ext cx="7007400" cy="2119320"/>
          </a:xfrm>
          <a:prstGeom prst="rect">
            <a:avLst/>
          </a:prstGeom>
          <a:ln w="0">
            <a:noFill/>
          </a:ln>
        </p:spPr>
      </p:pic>
      <p:sp>
        <p:nvSpPr>
          <p:cNvPr id="973" name="Straight Connector 6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4" name="Picture 9" descr="magento_logo.png"/>
          <p:cNvPicPr/>
          <p:nvPr/>
        </p:nvPicPr>
        <p:blipFill>
          <a:blip r:embed="rId2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6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361C-5FDD-4249-BA1D-9CB85303B35A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77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78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9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Что такое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90040" y="1295280"/>
            <a:ext cx="792324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rebuchet MS"/>
              </a:rPr>
              <a:t>—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движок Интернет-магазина, с открытым кодом, распространяющийся по лицензии </a:t>
            </a:r>
            <a:r>
              <a:rPr b="0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Open Software License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(OSL 3.0). 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На конкурсе </a:t>
            </a:r>
            <a:r>
              <a:rPr b="0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Sourceforge Community Choise Awards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d53f20"/>
                </a:solidFill>
                <a:latin typeface="Arial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занял первое место в номинации «лучший новый проект»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Около 90% кода было написано в Киеве и Днепропетровске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6653-0BDD-4107-AB35-B3CEAA4DB576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83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8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8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 </a:t>
            </a:r>
            <a:r>
              <a:rPr b="0" lang="ru-RU" sz="3000" spc="-1" strike="noStrike">
                <a:solidFill>
                  <a:srgbClr val="d53f20"/>
                </a:solidFill>
                <a:latin typeface="Arial Unicode MS"/>
              </a:rPr>
              <a:t>сегодня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590040" y="1295280"/>
            <a:ext cx="792324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1 500 000+ загрузок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6 000+ магазинов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2 000+ расширений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Совершено транзакций на 25 000 000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$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 community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wiki, boards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 connect (extensions)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6818-88D6-4DD2-B216-7B401E51EA85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89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0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91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 </a:t>
            </a:r>
            <a:r>
              <a:rPr b="0" lang="ru-RU" sz="3000" spc="-1" strike="noStrike">
                <a:solidFill>
                  <a:srgbClr val="d53f20"/>
                </a:solidFill>
                <a:latin typeface="Arial Unicode MS"/>
              </a:rPr>
              <a:t>«под капотом»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PHP 5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OOP (MVC)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Zend Framework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Модульная</a:t>
            </a: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архитектура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9D17-E078-4F4C-9C64-1F23F6581120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5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6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97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Системные требования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Linux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Windows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Веб-сервер Apache (1.x или 2.x)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PHP 5.2.0 (PHP 5.3 поддерживается начиная с версии 1.4), со следующими расширениями: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PDO_MySQL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mcrypt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mhash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simplexml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DOM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MySQL 4.1.20 или выше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Sendmail-совместимый почтовый сервер.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7F66-D077-4B82-ACD3-6F6BD62B76D5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1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2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03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Основные возможности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Пакеты дизайна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ножество валют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ножество сайтов на одной системе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ультиязычность (</a:t>
            </a:r>
            <a:r>
              <a:rPr b="0" lang="en-US" sz="2600" spc="-1" strike="noStrike">
                <a:solidFill>
                  <a:srgbClr val="333300"/>
                </a:solidFill>
                <a:latin typeface="Arial"/>
              </a:rPr>
              <a:t>i18n, l10n)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етоды оплаты и доставки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48AC-A54A-487D-BB0D-BD0C92812BEC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7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8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09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Возможности админки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 (1)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Маркетинговые инструменты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Многоуровневое ценообразование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Купоны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скидок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равила ценообразования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Отчеты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ы продаж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по корзинам покупателя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о списке отмеченного товара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об отзывах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по тегам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по поиску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FCBE-8776-4799-BFE4-EA081AADED1B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13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1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1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Возможности админки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 (2)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Продукты и каталог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Возможность задания различных атрибутов (свойств) для товара.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Группировка товара в комплекты.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Конфигурируемые продукты — продукты с выборочными свойствами (например цвет, размер и т. д.)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Сортировка товара по предопределенным атрибутам. Атрибуты доступные для сортировки определяются в панели администрирования.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истема управления содержимым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(CMS)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Группы покупателей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истема контроля прав доступа (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ACL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6:34:37Z</dcterms:created>
  <dc:creator>Minu</dc:creator>
  <dc:description/>
  <dc:language>en-US</dc:language>
  <cp:lastModifiedBy>DJ_Diesel</cp:lastModifiedBy>
  <dcterms:modified xsi:type="dcterms:W3CDTF">2010-06-02T20:11:55Z</dcterms:modified>
  <cp:revision>442</cp:revision>
  <dc:subject/>
  <dc:title>ZEND/PHP CONFERENCE – PPT TEMPLATE</dc:title>
</cp:coreProperties>
</file>